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jpeg" ContentType="image/jpeg"/>
  <Override PartName="/ppt/media/image5.png" ContentType="image/png"/>
  <Override PartName="/ppt/media/image9.wmf" ContentType="image/x-wmf"/>
  <Override PartName="/ppt/media/image11.jpeg" ContentType="image/jpeg"/>
  <Override PartName="/ppt/media/image19.gif" ContentType="image/gif"/>
  <Override PartName="/ppt/media/image4.wmf" ContentType="image/x-wmf"/>
  <Override PartName="/ppt/media/image18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AF6-C9D2-4109-9D55-47EBEFA0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C08-C8B1-4FE0-A21D-1A7D4BA3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260-B290-4161-AD9A-C8BADC47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773-15D8-4419-9DF2-473B5506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596-F508-45B0-B50A-C232A0AC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9B8-2355-46CD-87A1-90648B5D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63C-EFE4-4666-B411-96122619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08E-3091-4610-820F-055014D6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C11-85FC-4BE0-9CBF-6478EFF1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8B7-A562-49F0-B6A2-D6F88F9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7A2-BD2D-4920-BA1D-2B14F74C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D7D-EF95-422B-8A05-36DDF0CE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66DC-0FAE-45F8-917D-A7436B0C6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.flickr.com/69/213515876_c2ef807c92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.uk/imgres?imgurl=http://upload.wikimedia.org/wikipedia/commons/b/b8/Ear.jpg&amp;imgrefurl=http://commons.wikimedia.org/wiki/Image:Ear.jpg&amp;h=856&amp;w=546&amp;sz=220&amp;hl=en&amp;start=7&amp;sig2=bXZO4xzCYtPorB7OI8lc0w&amp;um=1&amp;usg=__7lnVWLRVJXF7T_J6nXU7_rpzdi4=&amp;tbnid=R_kp1PG-SIfWFM:&amp;tbnh=145&amp;tbnw=92&amp;ei=0F__SP_dLZCaxAGBoon6AQ&amp;prev=/images%3Fq%3Dear%26um%3D1%26hl%3Den%26rlz%3D1T4GGIH_en-GBGB261GB261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hyperlink" Target="http://www.dkimages.com/discover/previews/741/60561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hyperlink" Target="http://static.flickr.com/69/213515876_c2ef807c92.jpg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hyperlink" Target="http://images.google.co.uk/imgres?imgurl=http://upload.wikimedia.org/wikipedia/commons/b/b8/Ear.jpg&amp;imgrefurl=http://commons.wikimedia.org/wiki/Image:Ear.jpg&amp;h=856&amp;w=546&amp;sz=220&amp;hl=en&amp;start=7&amp;sig2=bXZO4xzCYtPorB7OI8lc0w&amp;um=1&amp;usg=__7lnVWLRVJXF7T_J6nXU7_rpzdi4=&amp;tbnid=R_kp1PG-SIfWFM:&amp;tbnh=145&amp;tbnw=92&amp;ei=0F__SP_dLZCaxAGBoon6AQ&amp;prev=/images%3Fq%3Dear%26um%3D1%26hl%3Den%26rlz%3D1T4GGIH_en-GBGB261GB261" TargetMode="External"/><Relationship Id="rId17" Type="http://schemas.openxmlformats.org/officeDocument/2006/relationships/image" Target="../media/image13.jpeg"/><Relationship Id="rId18" Type="http://schemas.openxmlformats.org/officeDocument/2006/relationships/image" Target="../media/image12.jpeg"/><Relationship Id="rId19" Type="http://schemas.openxmlformats.org/officeDocument/2006/relationships/image" Target="../media/image14.jpeg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9.wmf"/><Relationship Id="rId5" Type="http://schemas.openxmlformats.org/officeDocument/2006/relationships/hyperlink" Target="http://static.flickr.com/69/213515876_c2ef807c92.jpg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8.wmf"/><Relationship Id="rId8" Type="http://schemas.openxmlformats.org/officeDocument/2006/relationships/image" Target="../media/image3.wmf"/><Relationship Id="rId9" Type="http://schemas.openxmlformats.org/officeDocument/2006/relationships/image" Target="../media/image2.wmf"/><Relationship Id="rId10" Type="http://schemas.openxmlformats.org/officeDocument/2006/relationships/image" Target="../media/image5.png"/><Relationship Id="rId11" Type="http://schemas.openxmlformats.org/officeDocument/2006/relationships/image" Target="../media/image15.jpeg"/><Relationship Id="rId12" Type="http://schemas.openxmlformats.org/officeDocument/2006/relationships/hyperlink" Target="http://images.google.co.uk/imgres?imgurl=http://upload.wikimedia.org/wikipedia/commons/b/b8/Ear.jpg&amp;imgrefurl=http://commons.wikimedia.org/wiki/Image:Ear.jpg&amp;h=856&amp;w=546&amp;sz=220&amp;hl=en&amp;start=7&amp;sig2=bXZO4xzCYtPorB7OI8lc0w&amp;um=1&amp;usg=__7lnVWLRVJXF7T_J6nXU7_rpzdi4=&amp;tbnid=R_kp1PG-SIfWFM:&amp;tbnh=145&amp;tbnw=92&amp;ei=0F__SP_dLZCaxAGBoon6AQ&amp;prev=/images%3Fq%3Dear%26um%3D1%26hl%3Den%26rlz%3D1T4GGIH_en-GBGB261GB261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atic.flickr.com/69/213515876_c2ef807c92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hyperlink" Target="http://www.dkimages.com/discover/previews/741/60561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hyperlink" Target="http://static.flickr.com/69/213515876_c2ef807c92.jpg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12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kimages.com/discover/previews/741/6056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describing the weath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find the hidden ima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say what you do in various weather condi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692280"/>
            <a:ext cx="66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 llovien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222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92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 nubl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5832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692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 nevan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4718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42920" y="69228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 despej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421000"/>
            <a:ext cx="3659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4360" y="76500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Hay torment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0866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76500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Hay truen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340000" y="2421000"/>
            <a:ext cx="4871880" cy="3544920"/>
            <a:chOff x="2340000" y="2421000"/>
            <a:chExt cx="4871880" cy="354492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340000" y="2421000"/>
              <a:ext cx="3544920" cy="35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796000" y="2421000"/>
              <a:ext cx="141588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765000"/>
            <a:ext cx="777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Comic Sans MS"/>
              </a:rPr>
              <a:t>Hay relámpag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35449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76500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8660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512720" cy="149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979640" y="189000"/>
            <a:ext cx="812880" cy="180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276720" y="260280"/>
            <a:ext cx="1728720" cy="1611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364000" y="333360"/>
            <a:ext cx="1357560" cy="137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877080" y="260280"/>
            <a:ext cx="1728720" cy="1501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2565360"/>
            <a:ext cx="1727280" cy="1457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1979640" y="2565360"/>
            <a:ext cx="1601640" cy="1628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3708360" y="2924280"/>
            <a:ext cx="2016000" cy="100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796000" y="2708280"/>
            <a:ext cx="1584360" cy="14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451640" y="2708280"/>
            <a:ext cx="1368360" cy="133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4"/>
          <a:stretch/>
        </p:blipFill>
        <p:spPr>
          <a:xfrm>
            <a:off x="395280" y="4581360"/>
            <a:ext cx="17287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340000" y="4581360"/>
            <a:ext cx="1655280" cy="1312920"/>
            <a:chOff x="2340000" y="4581360"/>
            <a:chExt cx="1655280" cy="1312920"/>
          </a:xfrm>
        </p:grpSpPr>
        <p:pic>
          <p:nvPicPr>
            <p:cNvPr id="97" name="" descr=""/>
            <p:cNvPicPr/>
            <p:nvPr/>
          </p:nvPicPr>
          <p:blipFill>
            <a:blip r:embed="rId15"/>
            <a:stretch/>
          </p:blipFill>
          <p:spPr>
            <a:xfrm>
              <a:off x="2340000" y="4581360"/>
              <a:ext cx="1204560" cy="13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3514320" y="4581360"/>
              <a:ext cx="480960" cy="82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18"/>
          <a:stretch/>
        </p:blipFill>
        <p:spPr>
          <a:xfrm>
            <a:off x="4211640" y="4508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9"/>
          <a:stretch/>
        </p:blipFill>
        <p:spPr>
          <a:xfrm>
            <a:off x="6084720" y="4724280"/>
            <a:ext cx="17290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3357720"/>
            <a:ext cx="936720" cy="703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95640" y="530064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537372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1280" y="1177920"/>
            <a:ext cx="1368360" cy="776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88000" y="90792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88000" y="2060640"/>
            <a:ext cx="1079280" cy="976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5229360"/>
            <a:ext cx="1152360" cy="966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611280" y="1989000"/>
            <a:ext cx="1296720" cy="100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611280" y="3083040"/>
            <a:ext cx="1152360" cy="1074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4932360" y="5300640"/>
            <a:ext cx="75564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4716360" y="4149720"/>
            <a:ext cx="1224000" cy="1063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395280" y="422100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332000" y="4221000"/>
            <a:ext cx="501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tie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201636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08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08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4925880" cy="3043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08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08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08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108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2305080" cy="2084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7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10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3" dur="10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960720" cy="2246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084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3" dur="1084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3024360" cy="2955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9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4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3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8" dur="108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108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Ahora, al escribir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26701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tie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 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512720" cy="14986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979640" y="189000"/>
            <a:ext cx="812880" cy="1800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276720" y="260280"/>
            <a:ext cx="1728720" cy="1611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5364000" y="333360"/>
            <a:ext cx="1357560" cy="13795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6877080" y="260280"/>
            <a:ext cx="1728720" cy="1501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2565360"/>
            <a:ext cx="1727280" cy="1457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2565360"/>
            <a:ext cx="1601640" cy="16286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0"/>
          <a:stretch/>
        </p:blipFill>
        <p:spPr>
          <a:xfrm>
            <a:off x="3708360" y="2924280"/>
            <a:ext cx="2016000" cy="10047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1"/>
          <a:stretch/>
        </p:blipFill>
        <p:spPr>
          <a:xfrm>
            <a:off x="5796000" y="2708280"/>
            <a:ext cx="1584360" cy="1433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451640" y="2708280"/>
            <a:ext cx="1368360" cy="1338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4"/>
          <a:stretch/>
        </p:blipFill>
        <p:spPr>
          <a:xfrm>
            <a:off x="395280" y="4581360"/>
            <a:ext cx="17287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2340000" y="4581360"/>
            <a:ext cx="1655280" cy="1312920"/>
            <a:chOff x="2340000" y="4581360"/>
            <a:chExt cx="1655280" cy="1312920"/>
          </a:xfrm>
        </p:grpSpPr>
        <p:pic>
          <p:nvPicPr>
            <p:cNvPr id="319" name="" descr=""/>
            <p:cNvPicPr/>
            <p:nvPr/>
          </p:nvPicPr>
          <p:blipFill>
            <a:blip r:embed="rId15"/>
            <a:stretch/>
          </p:blipFill>
          <p:spPr>
            <a:xfrm>
              <a:off x="2340000" y="4581360"/>
              <a:ext cx="1204560" cy="13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6"/>
            <a:stretch/>
          </p:blipFill>
          <p:spPr>
            <a:xfrm>
              <a:off x="3514320" y="4581360"/>
              <a:ext cx="480960" cy="82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1" name="" descr=""/>
          <p:cNvPicPr/>
          <p:nvPr/>
        </p:nvPicPr>
        <p:blipFill>
          <a:blip r:embed="rId17"/>
          <a:stretch/>
        </p:blipFill>
        <p:spPr>
          <a:xfrm>
            <a:off x="4211640" y="4508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8"/>
          <a:stretch/>
        </p:blipFill>
        <p:spPr>
          <a:xfrm>
            <a:off x="6084720" y="4724280"/>
            <a:ext cx="17290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03280" y="1268280"/>
            <a:ext cx="6769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  <a:ea typeface="Arial"/>
              </a:rPr>
              <a:t>¿Qué tiempo hace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620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s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4321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620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fr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201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62064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mal tiem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56000" y="2421000"/>
            <a:ext cx="392724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62064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buen tiem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34131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0" y="333360"/>
            <a:ext cx="9144000" cy="6524640"/>
          </a:xfrm>
          <a:custGeom>
            <a:avLst/>
            <a:gdLst>
              <a:gd name="textAreaLeft" fmla="*/ 422640 w 9144000"/>
              <a:gd name="textAreaRight" fmla="*/ 8721360 w 9144000"/>
              <a:gd name="textAreaTop" fmla="*/ 422640 h 6524640"/>
              <a:gd name="textAreaBottom" fmla="*/ 6102000 h 6524640"/>
            </a:gdLst>
            <a:ahLst/>
            <a:rect l="textAreaLeft" t="textAreaTop" r="textAreaRight" b="textAreaBottom"/>
            <a:pathLst>
              <a:path w="30271" h="21600">
                <a:moveTo>
                  <a:pt x="0" y="0"/>
                </a:moveTo>
                <a:lnTo>
                  <a:pt x="30271" y="0"/>
                </a:lnTo>
                <a:lnTo>
                  <a:pt x="30271" y="21600"/>
                </a:lnTo>
                <a:lnTo>
                  <a:pt x="0" y="21600"/>
                </a:lnTo>
                <a:close/>
              </a:path>
              <a:path fill="lightenLess" w="30271" h="21600">
                <a:moveTo>
                  <a:pt x="0" y="0"/>
                </a:moveTo>
                <a:lnTo>
                  <a:pt x="30271" y="0"/>
                </a:lnTo>
                <a:lnTo>
                  <a:pt x="28871" y="1400"/>
                </a:lnTo>
                <a:lnTo>
                  <a:pt x="1400" y="1400"/>
                </a:lnTo>
                <a:close/>
              </a:path>
              <a:path fill="darken" w="30271" h="21600">
                <a:moveTo>
                  <a:pt x="30271" y="0"/>
                </a:moveTo>
                <a:lnTo>
                  <a:pt x="30271" y="21600"/>
                </a:lnTo>
                <a:lnTo>
                  <a:pt x="28871" y="20200"/>
                </a:lnTo>
                <a:lnTo>
                  <a:pt x="28871" y="1400"/>
                </a:lnTo>
                <a:close/>
              </a:path>
              <a:path fill="darkenLess" w="30271" h="21600">
                <a:moveTo>
                  <a:pt x="30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1" y="20200"/>
                </a:lnTo>
                <a:close/>
              </a:path>
              <a:path fill="lighten" w="30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620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vie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79640" y="2211480"/>
            <a:ext cx="4753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42483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6:08:06Z</dcterms:created>
  <dc:creator>Chris Fuller</dc:creator>
  <dc:description/>
  <dc:language>en-US</dc:language>
  <cp:lastModifiedBy>Owner1</cp:lastModifiedBy>
  <dcterms:modified xsi:type="dcterms:W3CDTF">2008-11-07T10:56:10Z</dcterms:modified>
  <cp:revision>9</cp:revision>
  <dc:subject/>
  <dc:title>Slide 1</dc:title>
</cp:coreProperties>
</file>